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1228-502A-4D31-9FD2-3E83A2350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7136-F9D5-411F-BE3A-C1708349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0199-E6F0-420F-AD4B-B1FA3ABE2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1222-BC45-4F6C-AF72-92E6CDD47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AE0C-9459-46BA-A761-A36C1BB50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982A-B4FF-4796-BAD0-D927D647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33E0-12DB-489E-B93C-2936901B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EBEE9-1414-4756-A863-2CF36AB9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61C0-A845-46D9-8E86-47215C6C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E8E8-CE12-4677-B6FA-4579384B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C861-DFF4-4E10-9144-F1AB736C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2D5E-9D59-4A37-912F-BF59BB48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BEE7-D172-46E1-9377-AC19410F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496B-BAE9-48C9-83EB-D04A9088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7B0D-9E9D-4DBC-A12C-D08E1B73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EED6-D9CB-4083-9D65-758B92868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0728-1FDE-4BF7-9FA1-D92CB6CCF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4216C-013E-4E91-867A-C9C8AD3E8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9EFAB-24D9-4EAA-A7AE-7D5D3C10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604E1-1850-46B3-8674-2D598CB3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31D85-1CC7-4E5D-AFE8-CD42C258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0F8ED-9477-4AD0-9837-05ADC017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FB61-4585-4E00-8788-8F3A4A8C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D11EC-0964-4CA1-B051-9E892790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9457F-A758-42DC-8120-7BD5B253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856DA-EDC1-4CAD-934A-E2C383B3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7479F-0E52-4509-BB7C-1EF04A1F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80173-6AB0-4D5F-84E1-DBF9E846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76D59-9712-4063-BD22-3EC872966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83844-9A68-4793-884C-9A3CAFF5C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F8FF-B280-4461-837E-D8C273A3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8C34-96E9-41F9-9CBB-590C0E0D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98BE-4529-455B-8C4C-0BBF21CA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CCCE-FA3E-47F8-956C-B7886C5D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3F0F-85E0-4168-B940-9D3A8921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AA21-F8A9-41CE-B0F7-689AFDF0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ACC9-71CE-4033-9B8E-814D0092CE2B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74AA-A162-460F-B4AD-B5A3EABFB371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167D-F5AE-485D-B400-1EFCB9E9A8A4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908000" y="1557360"/>
            <a:ext cx="5328000" cy="2448000"/>
          </a:xfrm>
          <a:prstGeom prst="rect">
            <a:avLst/>
          </a:prstGeom>
        </p:spPr>
        <p:txBody>
          <a:bodyPr wrap="none" lIns="110160" rIns="110160" tIns="55080" bIns="55080" anchor="t" anchorCtr="1">
            <a:prstTxWarp prst="textPlain">
              <a:avLst>
                <a:gd name="adj" fmla="val 52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rogram cezhraničnej spolupráce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ďarská republika- Slovenská republika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007-2013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1535400" y="4508640"/>
            <a:ext cx="6009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chválenie: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20. december 2007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Identifikačné číslo: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2007CB163PO0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31960" y="5495760"/>
            <a:ext cx="195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g. Zsolt Törö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Bratislava, 28.02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79280" y="1197000"/>
            <a:ext cx="864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Priamy prí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abezpečená finančná alokácia za prísne definovaných podmien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Odborné pozadie, transfer know-how, 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Nepriamy prí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tvorenie, posilnenie nových/existujúcich partnerstiev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tvorenie/posilnenie komunikácie na úrovni vertikálnej a horizontálnej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realizácia „zdola“ (bottom-up) vychádzajúcich rozvojových zámerov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silnenie konkurencieschopnosti regiónov, 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7800" y="35100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ínos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22200" y="981000"/>
          <a:ext cx="8353440" cy="5106960"/>
        </p:xfrm>
        <a:graphic>
          <a:graphicData uri="http://schemas.openxmlformats.org/drawingml/2006/table">
            <a:tbl>
              <a:tblPr/>
              <a:tblGrid>
                <a:gridCol w="2089080"/>
                <a:gridCol w="2089440"/>
                <a:gridCol w="2085840"/>
                <a:gridCol w="2089080"/>
              </a:tblGrid>
              <a:tr h="107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are CBC (Cross-border Co-operation) 2001-20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nd malých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 susedstva HUSKUA 2004-200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</a:t>
                      </a: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výz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 cezhraničnej spolupráce HUSK 2007-20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</a:t>
                      </a: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výz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nčná aloká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U: 372 00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: 372 00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U: 8 522 875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: 5 548 000 EUR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 014 05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y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viduál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ý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Zrkadlový, - Doplňujúc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dividuál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čet exemplár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7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5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2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čet podporených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1 program (HU0109): 9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 program (2002/000-604): 11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6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čakávania program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zhraničný dop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ezhraničný dopa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odár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ezhraničný dopa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odár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valá udržateľ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vnosť šancí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kritériá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cíp vedúceho partne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7094160" y="3240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Evolúcia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9280" y="119700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..... prebieha </a:t>
            </a:r>
            <a:r>
              <a:rPr b="0" lang="sk-SK" sz="2400" spc="-1" strike="noStrike">
                <a:solidFill>
                  <a:srgbClr val="ff3300"/>
                </a:solidFill>
                <a:latin typeface="Calibri"/>
              </a:rPr>
              <a:t>3.výzva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na prekladanie projektov, </a:t>
            </a:r>
            <a:r>
              <a:rPr b="0" lang="sk-SK" sz="2400" spc="-1" strike="noStrike">
                <a:solidFill>
                  <a:srgbClr val="ff3300"/>
                </a:solidFill>
                <a:latin typeface="Calibri"/>
              </a:rPr>
              <a:t>do 28.02.2011, 23.59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5280" y="35100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omentálne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15394" t="21474" r="13619" b="28986"/>
          <a:stretch/>
        </p:blipFill>
        <p:spPr>
          <a:xfrm>
            <a:off x="539640" y="1844640"/>
            <a:ext cx="770436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156360" y="35100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merujeme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1552680"/>
            <a:ext cx="885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..... k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4.výzve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na prekladanie projekto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redpokladaný termín zverejnenia: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2.štvrťrok 2011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redpokladaná alokácia: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cca.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48 M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blasti podpory: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 ?, predmetom rokovania SM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inančná alokácia 1. výzvy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45 009 737,12 EUR,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(246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106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projekto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inančná alokácia 2. výzvy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64 635 978,32 EUR, (270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107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projekto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redp. finančná alokácia 3. výzvy (EUR)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10 500 000,00 (?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 flipV="1" rot="10800000">
            <a:off x="5586480" y="1051560"/>
            <a:ext cx="3240000" cy="8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Prioritné osy a oblasti pod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03640" y="2565360"/>
            <a:ext cx="3999240" cy="34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1 </a:t>
            </a:r>
            <a:br>
              <a:rPr sz="1700"/>
            </a:b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Hospodárstvo a spoločnosť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41% (85 133 595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700"/>
            </a:br>
            <a:r>
              <a:rPr b="1" lang="pl-PL" sz="1700" spc="-1" strike="noStrike">
                <a:solidFill>
                  <a:srgbClr val="000000"/>
                </a:solidFill>
                <a:latin typeface="Arial"/>
              </a:rPr>
              <a:t>ŽP, ochrana prírody a dostupnosť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53% (110 050 746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1700"/>
            </a:b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Technická asistenc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6% (12 458 575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716000" y="1773360"/>
            <a:ext cx="64764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0" y="-27000"/>
            <a:ext cx="4629240" cy="6867360"/>
            <a:chOff x="0" y="-27000"/>
            <a:chExt cx="4629240" cy="6867360"/>
          </a:xfrm>
        </p:grpSpPr>
        <p:sp>
          <p:nvSpPr>
            <p:cNvPr id="139" name=""/>
            <p:cNvSpPr/>
            <p:nvPr/>
          </p:nvSpPr>
          <p:spPr>
            <a:xfrm>
              <a:off x="0" y="-27000"/>
              <a:ext cx="4629240" cy="6867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47680" y="161280"/>
              <a:ext cx="2296440" cy="7221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ogram cezhraničnej spoluprá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Maďarsko -Slovensk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2007 - 20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14440" y="864360"/>
              <a:ext cx="0" cy="546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36480" y="1026720"/>
              <a:ext cx="167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488240" y="1026720"/>
              <a:ext cx="4824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88880" y="1026720"/>
              <a:ext cx="4824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4480" y="1135080"/>
              <a:ext cx="1567440" cy="6483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Hospodárstvo a spoločnos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18320" y="17301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8680" y="1730160"/>
              <a:ext cx="0" cy="427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64400" y="17301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210200" y="1730160"/>
              <a:ext cx="11520" cy="362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08480" y="1135080"/>
              <a:ext cx="1567800" cy="6483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ŽP,</a:t>
              </a: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 </a:t>
              </a: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chrana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a dostupnos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4480" y="189252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odpora spolupráce     v oblasti hospodárstva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4480" y="254124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upráca v oblasti V&amp;V a inováci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08480" y="1892520"/>
              <a:ext cx="1549440" cy="707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aktivity              na podporu ochrany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08480" y="2757960"/>
              <a:ext cx="1549440" cy="548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aktivity ochrany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8680" y="22165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8680" y="286524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64400" y="22705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97000" y="6326280"/>
              <a:ext cx="2236320" cy="3776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Technická asistenc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4480" y="319068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odpora spoločného rozvoja turizm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64480" y="3785760"/>
              <a:ext cx="1555920" cy="640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ý rozvoj a koordinované využívanie zdravotníckych zariadení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4480" y="4542480"/>
              <a:ext cx="1555920" cy="480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5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Rozvoj sieťovania,partnerstva,  prog. &amp; proj. kapacít manažm.</a:t>
              </a: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4480" y="513756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využívanie a rozvoj ľudských zdroj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4480" y="5786280"/>
              <a:ext cx="1555920" cy="388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Aktivity Ľudia ľuď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8680" y="34599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8680" y="41637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8680" y="475884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8680" y="52999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8680" y="600228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08480" y="3406680"/>
              <a:ext cx="1549440" cy="707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Výstavba maloplošných komunikácií, cyklistických trás, verejná doprav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08480" y="4272120"/>
              <a:ext cx="1549440" cy="7081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Zabezpečenie lepších hraničných prechodov cez prihraničné rie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08480" y="5137560"/>
              <a:ext cx="1549440" cy="548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Zlepšenie komunikačných kanál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64400" y="31359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64400" y="383940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64400" y="454248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64400" y="53535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Szöveg helye 2"/>
          <p:cNvGraphicFramePr/>
          <p:nvPr/>
        </p:nvGraphicFramePr>
        <p:xfrm>
          <a:off x="2211480" y="115920"/>
          <a:ext cx="4592520" cy="6121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77" name="Szöveg helye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11480" y="115920"/>
                    <a:ext cx="4592520" cy="61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142920" y="1989000"/>
            <a:ext cx="8893080" cy="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04000" y="765000"/>
            <a:ext cx="216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vostupňová kontrola 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na úrovni partnera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MPaRV S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372000" y="1125360"/>
            <a:ext cx="433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77080" y="3284640"/>
            <a:ext cx="216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ruhostupňová  kontrola 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na úrovni projekt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STS Program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30+30 d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372000" y="3789360"/>
            <a:ext cx="433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360" y="1076400"/>
            <a:ext cx="150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Zodpovedn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aždý partn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a se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1440" y="3387600"/>
            <a:ext cx="150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Zodpovedn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edúci part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63640" y="148428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63640" y="364500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156360" y="3510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kúsenosti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1268280"/>
            <a:ext cx="88567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MIS (podávanie ŽoNFP, monitorovacia správa na úrovni projekt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bľúbené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versus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menej obľúbené oblasti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pružné/nasilu vytvorené partnerstvá (počet partnerov, hodnotenie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versus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implementáci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dostatočná komunikácia (vertikálna, horizontál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dsotatočné finančné zázemie (finančná kríz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únosné množstvo žiadostí o zmenu projektu (realokácia financií, zmena manažérov, predĺženie projektu,..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dstúpenie od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+3/2 parvid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ízka kvalita predložených monitorovacích sprá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adhotnotené indiká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ublicity guide (striktné predpisy),.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79280" y="1844640"/>
            <a:ext cx="885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Ďakujem za pozornosť a v mene 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ám prajem veľa úspecho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i implementácii projek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zabúdajte: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ak máte pochybnosti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pýtajte sa!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y sme tu pre Vás a Vy ste tu pre nás </a:t>
            </a:r>
            <a:r>
              <a:rPr b="0" lang="sk-SK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09:42:45Z</dcterms:created>
  <dc:creator>thomas</dc:creator>
  <dc:description/>
  <dc:language>en-US</dc:language>
  <cp:lastModifiedBy>TorokZsolt</cp:lastModifiedBy>
  <dcterms:modified xsi:type="dcterms:W3CDTF">2011-02-25T11:03:08Z</dcterms:modified>
  <cp:revision>39</cp:revision>
  <dc:subject/>
  <dc:title>1. dia</dc:title>
</cp:coreProperties>
</file>